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47B-1862-4104-AD28-BEE302A5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5A8-899D-4439-AC62-1D6F80F7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BAE-5664-4A46-B908-AFE2076F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038-A809-47B4-BD3C-9D1BC9DD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B2B-41FA-467B-B685-16644FCD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9BA-D1AE-4B6F-97E4-6F053724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B289-CFDD-44C1-9191-EBA746A9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C50-41A3-420B-8F81-5E44144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E4D-A34D-43C7-A1FE-A7BBCAC1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4A7-66D4-4D39-BC3B-70E1553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89F-DFD6-4040-BC66-E706217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3ED-A0CD-485B-B6E7-546F9339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316F-7952-45A0-80A2-E020778FE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Eastern Woodlands Indi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3733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1824120" cy="1790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34934" r="0" b="0"/>
          <a:stretch/>
        </p:blipFill>
        <p:spPr>
          <a:xfrm>
            <a:off x="404640" y="2590920"/>
            <a:ext cx="83347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00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565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23261" r="0" b="-19086"/>
          <a:stretch/>
        </p:blipFill>
        <p:spPr>
          <a:xfrm>
            <a:off x="1752480" y="2895480"/>
            <a:ext cx="5629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18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105520" cy="4343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42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4880" y="1295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41760" cy="3449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5114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18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64080" y="2803680"/>
            <a:ext cx="1814400" cy="1249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724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83400" y="2133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68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18:48Z</dcterms:modified>
  <cp:revision>22</cp:revision>
  <dc:subject/>
  <dc:title>No Slide Title</dc:title>
</cp:coreProperties>
</file>